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1CD-B506-47BD-9083-9680E20F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0E0-2860-4A2B-878A-AD99C5A3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431-CDAF-4D47-9AB8-CAB853F6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4EA-315B-49E9-909B-73D55372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30E6-CBDA-49AD-A53A-E4E88914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08B0-4E22-4352-A5F9-7AB47C9D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9A2-CB7D-49B8-9B0C-B062F94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7F2E-99CD-491C-B1B0-9AB70FEF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76D2-111E-48CF-B133-91A5FF6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E3DC-DAAD-4B8E-9779-B6C09D4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909A-AEED-47EB-B6FD-925968A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F95-B620-4BE6-A847-A0EDD2B7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8BCB-7262-4804-9F35-1B99DC9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834B-F336-4CAD-BCD9-9BAAA081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9A60-4BBA-4EBF-A10A-E29CA070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6F6-0D96-44B0-8F82-09AD0E55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7FFC-0806-474B-A792-35E106A3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7FC-C6FF-4678-8791-EED55392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282-DCD7-4D6A-B384-74F5B445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8B2-C1C5-493D-8C23-B5C60942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842-58C7-4794-A658-DA527E8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DCD-A954-4731-B583-09757C6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8C5-401B-47E6-A128-1AF84DDE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906-6014-4B96-8C9B-E7B72AF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84F-AF35-4049-AD78-985AEE299D4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EAD2-C439-4814-B865-D68E3A6606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The Book of Job (1)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5, Lesson 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nited Kingdom, Part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ges 138-14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-5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righteous man blessed by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om the land of Uz, to the Eas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triarch who offered sacrifi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who feared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ri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large family (ten childre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very great household (servant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greatest of all the men of the E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6-1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slanders his charac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ed Job of serving God only because God had bless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tan asked God, “Does Job fear God for nothing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stripped of his blessings, he would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accepted Satan’s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llowed Satan to strip him of all of his possessions and his childr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herds of oxen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sheep (7,000) killed by a thunderstor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vast herds of camels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10 children killed by a strong wi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’s reac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:21 (ESV)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he said, "Naked I came from my mother's womb, and naked shall I return. The Lord gave, and the Lord has taken away; blessed be the name of the Lord."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4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4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4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made another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his health is taken away, he will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itten by the most painful disease known to the ancient world (boils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wife thought he should curse God and d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en Job’s friends finally blamed him for his afflictions – said he was wick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e next lesson, we will discus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est of the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ations made by Job’s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Job answ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 young man told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’s response to the occa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finally happened to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Wisdom Literature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, Psalms, Proverbs, Ecclesiastes, and Song of Solomon often called – “poetry” but they are mor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contain “Wisdom Literature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deal with man’s approach to life on earth in all its asp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ir messages are found in groups of phrases and expres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253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o men serve God?  Is it for gain, or is it because of devotion and commitm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salm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Jewish hymnal – praises, prayers to express our sacred and holy though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verbs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ollection of principles and axioms containing the distilled wisdom of all the ages – principles of living righ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clesiaste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meaning of “life under the sun”?  What really matters in lif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g of Solomon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ove s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als with the feelings of affection, romance, and sexual attraction leading up to marri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of the books were written by David and Solomon during the period of the United Kingd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mber Solomon’s wisdo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Read 1 Kings 4:29-3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83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ok of Job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riarchal period; God spoke directly and Job offered sacrifices; God’s serv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sdom literature; Solomon and Dav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iends; descendants of Abrah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life; Job lived 140 year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afte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e was re-establ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ention of Israel or the la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babl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Abraham, before Solom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Scope of Our Study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obtain a general overview of the whole Bible as it pertains to God’s plan of redemp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discuss the “gist” of each book with some of their practical lessons for 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not go into a detailed study of each boo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ur Important Question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men serve God only for the blessings He giv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uffering always a sign of God’s wra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, is prosperity always a sign of God’s pleasu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we have a right to question God about why He does the things He does, or why He allows the things He allow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04:37:54Z</dcterms:modified>
  <cp:revision>33</cp:revision>
  <dc:subject/>
  <dc:title>Job</dc:title>
</cp:coreProperties>
</file>